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30F-2FE8-41DB-B6DF-AFEFB86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094-FFC6-4634-B9B3-75564F0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9BF-30B4-4867-99B6-0A1BEA3C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1AF-27BB-4655-A178-03C1975A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ECC-C93F-4D6A-B8DA-22D8B02B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F286-6075-473B-BA10-6540767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BEFF-4061-4272-94EE-97E3D7E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DE7-6FA7-46CF-9C3D-0E76E2F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5A7-BDBC-4C30-9D6A-E79E4F9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009-BDAF-4A77-A2FC-8D62BB54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761C-1BC3-4515-8378-2639409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77F-5EE5-40A9-994D-2520809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6BB7-905A-4656-A04E-52B6E0B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BC5-2624-4A8A-9706-AC23629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3F0-A239-44E5-9E71-D74AA2D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E610-9612-4512-8B7D-65B70373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767-26D6-4900-B92C-CA764A9F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787-15D9-4599-A969-6196D48D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11B-A351-4DD8-B285-7400A7E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763-92F7-4F14-8019-3A001A7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3CB-5D38-4B10-899C-C67865B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0DE-85D1-4BD7-BEA9-183C3CF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65A-004E-433D-85BF-DAAA587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33A-25FF-42D0-8B4D-C9FE686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AE5-8EEC-4D25-9592-AC926B86DA39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B43-47D3-4E97-89FF-ADF0211CBF3B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9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9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ic cres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3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Tibia (Pes Anserine Tend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D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18T13:44:00Z</dcterms:modified>
  <cp:revision>35</cp:revision>
  <dc:subject/>
  <dc:title>Hip Muscles</dc:title>
</cp:coreProperties>
</file>